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12239625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FB9-00B8-41FE-8F1F-ED406D4A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376-7F3E-4D78-98BA-BC00D425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068AB-20FC-4012-BCBB-326A7295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42C08-A6D3-48C1-B194-1D1ADCB5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96593-353F-4919-9F8B-7EB19A3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78A40-D5E0-4ECD-9100-048ABDD3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FE29E-650A-43C8-B392-0E7DA355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535AC-FBA1-4CF4-851F-8C905ABC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F9E8B-1DAA-4942-97EF-5772BE3B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29767-DB51-4842-8D89-6CA8EBE6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F7A99-3396-4DC2-AEAE-A1FCF46D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9B5FC-2B1E-4627-8FAC-8425DFF5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A3A-67C2-46B3-B77C-D7601F1E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95B74-1485-40C0-8A4C-7E5C17E5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52919-D04D-43AD-A639-9E0AE876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CEDA3-81F0-4DB7-ABE8-37EE2EA8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D22E8-A690-4494-BDA9-7337E3F7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DC7C9-99DB-4F88-81F8-9F007F39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B9E04-8BEE-4A02-A5F5-FA69B8D6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7FEFD-E975-4716-979A-24EE55DA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9CFDF-1A1F-4E1F-982A-67D28E0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CF910-0E52-4E03-B82A-878DCBE3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46800-7AAE-476A-92A7-AB2E17F8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0F3-0102-4C9D-A23D-A2E452C8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CDB5B-A5FB-440E-8F41-922215F9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F81E2-CB1D-4CEC-961B-C3D13B0C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BD07F-6991-4855-91DA-786B4F82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A87B1-AB83-4D72-88BD-D4C6D800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0C8FF-A7CB-4ACC-B3D8-C65F0B88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97CEC-4555-465D-A2FA-2E5A7168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43EC1-54BA-454B-AEF0-1CADB72F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9B80B-687E-4FDC-9873-A4D81AA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8A3EE-436C-4215-9AF5-E82F2A1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3175E-74CA-4A68-9FFD-B4EB9378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BFDF-BA32-4373-A534-5DAA94D6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7D761-F5B2-4894-A5AA-A3F9D3DB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297B6-A80F-4F45-B097-64269201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6E701-501D-4C54-98E1-96B6567E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5A1DD-3E96-4C00-BB52-08BF4EB5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767B2-62BF-40B6-AB38-A65A601F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AA19F-7808-47CF-A687-6A315E75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466F6-7D6D-4D7C-90D4-3A70C255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66F5C-E241-4C05-82D1-CD16321F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48E35-55A5-47DE-9DDD-D0A2AC99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2F936-69B7-4555-8E30-16AC936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C19-AC88-48D3-9D15-4A90C10F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234F1-92D3-457E-AFBD-7722BAFB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021E9-4080-493C-B329-56D05C80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E7E85-5F06-411E-A0F3-61B2B54D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83D5F-7C25-43E2-9E4D-93DFA061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59D90-1BCF-4A75-9565-6297A861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96446-D6C1-4440-BC93-02E59B04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90055-A16E-4825-8E01-A2C80D1B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A2AEF-4B33-45AC-8AAB-69808B40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92A43-F599-4202-96DF-6C6EC10D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848B9-9B20-4596-B2BA-1616269D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A758-A029-482F-B421-CF1F124D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EE169-9296-4E0A-9C00-EDF72E33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A4B02-244F-4C3C-849C-DF23917E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2091C-C85A-4DFC-AC0F-C48EAD64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04CAA-B985-4A89-B0AB-90CFF078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61E8B-3534-4B09-BA13-BEB421A6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A62B8-8ABF-4D37-B474-E7BC29AC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A76AC-03D7-4BD8-AF4D-C250F682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376C9-95EE-4686-B4BC-2711614E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AE7A3A-E7F3-4C3C-9D17-D076FC29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A20CC-FF60-48D2-BA39-F3045E92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2F0E-0EB0-4253-A55B-93C587ED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9F296-A58E-41E4-B726-73E40CC2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068E6-ACC2-4FAB-AB08-0A984AD0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6593C-7D2F-4B15-B52D-F049E560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224E4-AE64-4682-8E89-2AD188EB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AC37A-DB39-4242-991A-EBA75977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45D9C-729E-4F81-AF27-6F0F9D62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F45E6-48F1-4CF1-8071-98F3AE03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BFCE9-5A13-4C88-A2E5-1FD66C0E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56635-3D86-4D0C-8B0D-ABC3F301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5BCF-B02C-4033-B02D-E0E05723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B133-077A-46F2-8A60-F884A2F2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CDDD-2CED-48E1-96AD-6349BF02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C1A-A208-42A8-BAAB-C82F6DE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3C5E-E093-4DE5-B61F-81002012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934D-646F-418D-AE94-1E02E0B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7463-09BD-4928-B51D-9B901C8D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4BE1-DA31-46B5-9431-45F12B7E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570F-6109-4334-AA75-09151626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AB69-6887-4DE9-B6EE-C3770085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772A2-77BC-4F5C-B76E-53B1C1DF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04A5-3D91-4288-9E68-7EE26DB4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05E25-7950-49E5-8EE5-9337EFAC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B6792-E361-4E06-B9A6-1CCEF3E2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B60-B1DB-469B-92FC-349D2263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7B34-889F-46FD-88C7-F00293C5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9CC1-B8DC-445E-AFEB-8ECFA1D7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4B613-AFAC-47A1-AC5E-85A9B39E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50B2C-0AC2-4C30-B004-5D09771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76F5-F35B-43C3-836D-9BE1FCDA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18B2-1CA2-4A40-9B29-8CE162EE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33AE-FA38-4826-BDBD-2AFA3D13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83BEF-90FD-4E9E-8C05-E95A3328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C4F25-113A-4459-BD19-B76EB331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09A7-3AC6-4BEE-99E9-4E8CF919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EE9-4F6D-4CDC-BB16-3DD4DC4F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97F5-7D31-4DD6-9D02-2DEDF05A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96515-174E-4B4C-98D1-ADC5BF5B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E5D9-1083-4F29-9C92-697E612E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FE2F7-2692-406D-8A71-FF410C3B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4602-2A8E-439D-A673-B95EC64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EBD0-53B4-4DCA-AE05-6EB9195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E1306-0149-44F2-BFF4-EF42DF34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33788-B6A9-4708-8575-8FDB2664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2A4F-377D-4952-BD58-BCEE250C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D438E-F35C-4D8C-876E-90463159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BD7-5859-4332-BC51-01A1570F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A437A-88CB-4560-818E-8FC461CE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C07DB-0F5A-498D-A035-AB39489E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6F7B-37DF-4EEE-AEA1-642C3AC6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09AA5-2F85-4FAE-9FC4-4C7FCA0D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084F2-BC34-43D7-8319-118A70C4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67C67-FE80-4995-B2AD-4DBF3BB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B15CE-1D7B-4748-906A-56F77DF8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69266-1E3D-40AE-AE23-867FDA5A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5E6E0-B5E1-4663-8F1A-8EC1C937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F7EA1-78A1-4902-9317-24221601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C40-9584-4414-95A4-68801787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A3C34-AFFD-4103-A76F-6B9687CC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7CE95-8BDC-4386-925E-BF1A75C0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3E137-6D70-47B3-9AA0-86EAC278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059B6-97FF-4F9F-A7A3-A29B211F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CFA8-BF96-4CC5-A5F6-BE968F4E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FE8D4-7812-416F-9D0A-0BDE321D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75A60-24E2-4EDE-9B61-F1A3BB0E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D754-4034-40FD-9B8F-9DF66CE2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4BE1F-F55B-4CED-83DF-4DE72C21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13508-5ABF-459E-81FA-A0D6B257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899-6D4A-45A8-B7DA-A969DB1D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775C-0F21-4DC6-954B-30634892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302DF-FD85-4DA9-9307-7E5DE4F5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72789-5697-439F-BD55-A99EC81F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3B604-3D0B-4069-A9FE-16987079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0A5CA-815F-4CB9-8195-66EFB92C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EDB35-C8D7-4F70-AE6F-1796A511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DA34C-74CD-401C-8187-973FAE65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B3AD1-B33B-4829-ADE6-77AD0371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B7CD2-3162-4E21-BE36-5C4B1811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231FB-BEEB-4A3A-9A4B-E4DF418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0EA-8696-4F89-B130-35BC7ED7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43BA7-2BE6-4357-B53D-97591CC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1A818-9E9D-4E14-8100-47D134B9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5DC63-7650-426C-9E10-AF9EBBAE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34304-538A-4399-858F-F0AF6092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59A10-50B0-4734-A9A3-C6BD621B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B4109-7B77-47AB-9583-E2555FD0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03B86-A88F-4919-A347-9581DBC4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36A62-621D-47D9-9A45-C7F7A6E4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F092E-28C3-478F-B318-92DBC0DA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CC902-FC80-4F85-9AC7-D5B6F5C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424-A368-483D-88D5-A32254D4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2166480" y="1255320"/>
            <a:ext cx="94489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B9AD8-DD8F-43E0-B3AA-C051DD43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FABD8-5740-4A51-8F7E-EE29D960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9409A-3857-4B4B-A6B9-301D457E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23D66-2D77-4EDC-9339-5FB15EC6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12720" y="4529160"/>
            <a:ext cx="110030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F39D3-CA00-4EF8-806B-1D4A2E08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51040" y="22395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272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251040" y="4529160"/>
            <a:ext cx="5369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DBB90-7783-4BC6-AF9C-B866D758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33296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053200" y="22395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1272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33296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053200" y="4529160"/>
            <a:ext cx="35427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976DB-506B-4AD5-82EE-53F14D85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26E4E-227D-4240-B232-72DE45A7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0876D-DA27-44E6-8DD3-7FD238FC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F732F-D7DB-41A3-8A77-B41B8669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440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66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1236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81040" y="6850080"/>
            <a:ext cx="387684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77212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81C9-7F60-49CA-BA6D-F299EEBB0AC1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3"/>
          <p:cNvGrpSpPr/>
          <p:nvPr/>
        </p:nvGrpSpPr>
        <p:grpSpPr>
          <a:xfrm>
            <a:off x="1204920" y="1027080"/>
            <a:ext cx="2069640" cy="1209600"/>
            <a:chOff x="1204920" y="1027080"/>
            <a:chExt cx="2069640" cy="1209600"/>
          </a:xfrm>
        </p:grpSpPr>
        <p:sp>
          <p:nvSpPr>
            <p:cNvPr id="383" name="Rectangle 4"/>
            <p:cNvSpPr/>
            <p:nvPr/>
          </p:nvSpPr>
          <p:spPr>
            <a:xfrm>
              <a:off x="1204920" y="1027080"/>
              <a:ext cx="1540080" cy="1209600"/>
            </a:xfrm>
            <a:prstGeom prst="rect">
              <a:avLst/>
            </a:prstGeom>
            <a:noFill/>
            <a:ln w="6480">
              <a:solidFill>
                <a:srgbClr val="0e96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e9651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5"/>
            <p:cNvSpPr/>
            <p:nvPr/>
          </p:nvSpPr>
          <p:spPr>
            <a:xfrm>
              <a:off x="2311920" y="1253520"/>
              <a:ext cx="962640" cy="7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68640" y="1255680"/>
            <a:ext cx="94471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2720" y="2239920"/>
            <a:ext cx="110030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58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84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61236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4181040" y="6849720"/>
            <a:ext cx="3876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77212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6C4D-1A7E-4442-9097-8CAFBF47ACB2}" type="slidenum">
              <a:rPr b="0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179840" y="4280040"/>
            <a:ext cx="5059440" cy="2890800"/>
            <a:chOff x="7179840" y="4280040"/>
            <a:chExt cx="5059440" cy="2890800"/>
          </a:xfrm>
        </p:grpSpPr>
        <p:sp>
          <p:nvSpPr>
            <p:cNvPr id="427" name="AutoShape 5"/>
            <p:cNvSpPr/>
            <p:nvPr/>
          </p:nvSpPr>
          <p:spPr>
            <a:xfrm rot="16200000">
              <a:off x="10756800" y="4600440"/>
              <a:ext cx="1802880" cy="1162080"/>
            </a:xfrm>
            <a:prstGeom prst="triangle">
              <a:avLst>
                <a:gd name="adj" fmla="val 50000"/>
              </a:avLst>
            </a:prstGeom>
            <a:solidFill>
              <a:srgbClr val="94d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6"/>
            <p:cNvSpPr/>
            <p:nvPr/>
          </p:nvSpPr>
          <p:spPr>
            <a:xfrm rot="10800000">
              <a:off x="7179840" y="6267960"/>
              <a:ext cx="2324520" cy="902520"/>
            </a:xfrm>
            <a:prstGeom prst="triangle">
              <a:avLst>
                <a:gd name="adj" fmla="val 50000"/>
              </a:avLst>
            </a:prstGeom>
            <a:solidFill>
              <a:srgbClr val="8e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7"/>
            <p:cNvSpPr/>
            <p:nvPr/>
          </p:nvSpPr>
          <p:spPr>
            <a:xfrm rot="10800000">
              <a:off x="8517600" y="5278320"/>
              <a:ext cx="2324160" cy="902520"/>
            </a:xfrm>
            <a:prstGeom prst="triangle">
              <a:avLst>
                <a:gd name="adj" fmla="val 50000"/>
              </a:avLst>
            </a:prstGeom>
            <a:solidFill>
              <a:srgbClr val="94d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8"/>
            <p:cNvSpPr/>
            <p:nvPr/>
          </p:nvSpPr>
          <p:spPr>
            <a:xfrm>
              <a:off x="8519400" y="6268320"/>
              <a:ext cx="2324160" cy="902520"/>
            </a:xfrm>
            <a:prstGeom prst="triangle">
              <a:avLst>
                <a:gd name="adj" fmla="val 50000"/>
              </a:avLst>
            </a:prstGeom>
            <a:solidFill>
              <a:srgbClr val="94d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9"/>
            <p:cNvSpPr/>
            <p:nvPr/>
          </p:nvSpPr>
          <p:spPr>
            <a:xfrm>
              <a:off x="9887760" y="5275440"/>
              <a:ext cx="2324520" cy="902520"/>
            </a:xfrm>
            <a:prstGeom prst="triangle">
              <a:avLst>
                <a:gd name="adj" fmla="val 50000"/>
              </a:avLst>
            </a:prstGeom>
            <a:solidFill>
              <a:srgbClr val="8e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10"/>
            <p:cNvSpPr/>
            <p:nvPr/>
          </p:nvSpPr>
          <p:spPr>
            <a:xfrm rot="10800000">
              <a:off x="9887400" y="6267960"/>
              <a:ext cx="2324520" cy="902520"/>
            </a:xfrm>
            <a:prstGeom prst="triangle">
              <a:avLst>
                <a:gd name="adj" fmla="val 50000"/>
              </a:avLst>
            </a:prstGeom>
            <a:solidFill>
              <a:srgbClr val="ebf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68640" y="1255680"/>
            <a:ext cx="94471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12720" y="2239920"/>
            <a:ext cx="110030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58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84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1236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4181040" y="6849720"/>
            <a:ext cx="3876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877212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3E91-C9B1-4253-A412-44BFA21D01DF}" type="slidenum">
              <a:rPr b="0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3"/>
          <p:cNvGrpSpPr/>
          <p:nvPr/>
        </p:nvGrpSpPr>
        <p:grpSpPr>
          <a:xfrm>
            <a:off x="1204920" y="1027080"/>
            <a:ext cx="2069640" cy="1209600"/>
            <a:chOff x="1204920" y="1027080"/>
            <a:chExt cx="2069640" cy="1209600"/>
          </a:xfrm>
        </p:grpSpPr>
        <p:sp>
          <p:nvSpPr>
            <p:cNvPr id="475" name="Rectangle 4"/>
            <p:cNvSpPr/>
            <p:nvPr/>
          </p:nvSpPr>
          <p:spPr>
            <a:xfrm>
              <a:off x="1204920" y="1027080"/>
              <a:ext cx="1540080" cy="1209600"/>
            </a:xfrm>
            <a:prstGeom prst="rect">
              <a:avLst/>
            </a:prstGeom>
            <a:noFill/>
            <a:ln w="6480">
              <a:solidFill>
                <a:srgbClr val="0e96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e9651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"/>
            <p:cNvSpPr/>
            <p:nvPr/>
          </p:nvSpPr>
          <p:spPr>
            <a:xfrm>
              <a:off x="2311920" y="1253520"/>
              <a:ext cx="962640" cy="7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68640" y="1255680"/>
            <a:ext cx="94471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12720" y="2239920"/>
            <a:ext cx="110030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58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84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1236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4181040" y="6849720"/>
            <a:ext cx="3876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877212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B8CF-B31A-49E2-AAE6-A35806606344}" type="slidenum">
              <a:rPr b="0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168640" y="1255680"/>
            <a:ext cx="94471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12720" y="2239920"/>
            <a:ext cx="110030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58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84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12360" y="688032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4181040" y="6880320"/>
            <a:ext cx="387684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772120" y="688032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57EA-B50B-4665-8046-BBA78954A6B6}" type="slidenum">
              <a:rPr b="0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68640" y="1255680"/>
            <a:ext cx="94471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12720" y="2239920"/>
            <a:ext cx="110030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58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84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61236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4181040" y="6849720"/>
            <a:ext cx="3876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877212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7E5C-2B28-464A-AB94-E10D1E96450E}" type="slidenum">
              <a:rPr b="0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12720" y="2239920"/>
            <a:ext cx="110030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58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84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1236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181040" y="6849720"/>
            <a:ext cx="3876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77212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9316-C405-4505-ADD9-5C6A611DF477}" type="slidenum">
              <a:rPr b="0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2168640" y="1255680"/>
            <a:ext cx="94471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440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66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81040" y="6850080"/>
            <a:ext cx="387684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7212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1DB2-3EE9-4A43-8C0B-6A219E1EE496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"/>
          <p:cNvGrpSpPr/>
          <p:nvPr/>
        </p:nvGrpSpPr>
        <p:grpSpPr>
          <a:xfrm>
            <a:off x="1204920" y="1027080"/>
            <a:ext cx="2069640" cy="1209600"/>
            <a:chOff x="1204920" y="1027080"/>
            <a:chExt cx="2069640" cy="1209600"/>
          </a:xfrm>
        </p:grpSpPr>
        <p:sp>
          <p:nvSpPr>
            <p:cNvPr id="124" name="Rectangle 4"/>
            <p:cNvSpPr/>
            <p:nvPr/>
          </p:nvSpPr>
          <p:spPr>
            <a:xfrm>
              <a:off x="1204920" y="1027080"/>
              <a:ext cx="1540080" cy="1209600"/>
            </a:xfrm>
            <a:prstGeom prst="rect">
              <a:avLst/>
            </a:prstGeom>
            <a:noFill/>
            <a:ln w="6480">
              <a:solidFill>
                <a:srgbClr val="0e96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e9651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"/>
            <p:cNvSpPr/>
            <p:nvPr/>
          </p:nvSpPr>
          <p:spPr>
            <a:xfrm>
              <a:off x="2311920" y="1253520"/>
              <a:ext cx="962640" cy="7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440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66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1236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81040" y="6850080"/>
            <a:ext cx="387684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77212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0ADD-51D8-4C53-AC9C-80DC7D5F8C41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7179840" y="4280040"/>
            <a:ext cx="5059440" cy="2890800"/>
            <a:chOff x="7179840" y="4280040"/>
            <a:chExt cx="5059440" cy="2890800"/>
          </a:xfrm>
        </p:grpSpPr>
        <p:sp>
          <p:nvSpPr>
            <p:cNvPr id="168" name="AutoShape 5"/>
            <p:cNvSpPr/>
            <p:nvPr/>
          </p:nvSpPr>
          <p:spPr>
            <a:xfrm rot="16200000">
              <a:off x="10756800" y="4600440"/>
              <a:ext cx="1802880" cy="1162080"/>
            </a:xfrm>
            <a:prstGeom prst="triangle">
              <a:avLst>
                <a:gd name="adj" fmla="val 50000"/>
              </a:avLst>
            </a:prstGeom>
            <a:solidFill>
              <a:srgbClr val="94d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6"/>
            <p:cNvSpPr/>
            <p:nvPr/>
          </p:nvSpPr>
          <p:spPr>
            <a:xfrm rot="10800000">
              <a:off x="7179840" y="6267960"/>
              <a:ext cx="2324520" cy="902520"/>
            </a:xfrm>
            <a:prstGeom prst="triangle">
              <a:avLst>
                <a:gd name="adj" fmla="val 50000"/>
              </a:avLst>
            </a:prstGeom>
            <a:solidFill>
              <a:srgbClr val="8e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10800000">
              <a:off x="8517600" y="5278320"/>
              <a:ext cx="2324160" cy="902520"/>
            </a:xfrm>
            <a:prstGeom prst="triangle">
              <a:avLst>
                <a:gd name="adj" fmla="val 50000"/>
              </a:avLst>
            </a:prstGeom>
            <a:solidFill>
              <a:srgbClr val="94d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>
              <a:off x="8519400" y="6268320"/>
              <a:ext cx="2324160" cy="902520"/>
            </a:xfrm>
            <a:prstGeom prst="triangle">
              <a:avLst>
                <a:gd name="adj" fmla="val 50000"/>
              </a:avLst>
            </a:prstGeom>
            <a:solidFill>
              <a:srgbClr val="94d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>
              <a:off x="9887760" y="5275440"/>
              <a:ext cx="2324520" cy="902520"/>
            </a:xfrm>
            <a:prstGeom prst="triangle">
              <a:avLst>
                <a:gd name="adj" fmla="val 50000"/>
              </a:avLst>
            </a:prstGeom>
            <a:solidFill>
              <a:srgbClr val="8e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 rot="10800000">
              <a:off x="9887400" y="6267960"/>
              <a:ext cx="2324520" cy="902520"/>
            </a:xfrm>
            <a:prstGeom prst="triangle">
              <a:avLst>
                <a:gd name="adj" fmla="val 50000"/>
              </a:avLst>
            </a:prstGeom>
            <a:solidFill>
              <a:srgbClr val="ebf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440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66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1236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81040" y="6850080"/>
            <a:ext cx="387684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7212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1793-E862-4632-89EA-3A5CE6218413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3"/>
          <p:cNvGrpSpPr/>
          <p:nvPr/>
        </p:nvGrpSpPr>
        <p:grpSpPr>
          <a:xfrm>
            <a:off x="1204920" y="1027080"/>
            <a:ext cx="2069640" cy="1209600"/>
            <a:chOff x="1204920" y="1027080"/>
            <a:chExt cx="2069640" cy="1209600"/>
          </a:xfrm>
        </p:grpSpPr>
        <p:sp>
          <p:nvSpPr>
            <p:cNvPr id="216" name="Rectangle 4"/>
            <p:cNvSpPr/>
            <p:nvPr/>
          </p:nvSpPr>
          <p:spPr>
            <a:xfrm>
              <a:off x="1204920" y="1027080"/>
              <a:ext cx="1540080" cy="1209600"/>
            </a:xfrm>
            <a:prstGeom prst="rect">
              <a:avLst/>
            </a:prstGeom>
            <a:noFill/>
            <a:ln w="6480">
              <a:solidFill>
                <a:srgbClr val="0e96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e9651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5"/>
            <p:cNvSpPr/>
            <p:nvPr/>
          </p:nvSpPr>
          <p:spPr>
            <a:xfrm>
              <a:off x="2311920" y="1253520"/>
              <a:ext cx="962640" cy="7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440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66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61236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4181040" y="6850080"/>
            <a:ext cx="387684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77212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FD21-FE54-4870-AA76-EAEE296F2246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440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66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612360" y="6881760"/>
            <a:ext cx="2855880" cy="2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4181040" y="6881760"/>
            <a:ext cx="3876840" cy="2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772120" y="6881760"/>
            <a:ext cx="2855880" cy="2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7169-5DAC-4837-9CC8-A39DE8CE3C53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66480" y="1255320"/>
            <a:ext cx="9448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12720" y="223956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440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66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832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832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61236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4181040" y="6850080"/>
            <a:ext cx="387684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772120" y="6850080"/>
            <a:ext cx="285588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B2E2-BEB8-48F8-B3E2-529A267E52EF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68640" y="1255680"/>
            <a:ext cx="94471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e9651"/>
                </a:solidFill>
                <a:latin typeface="黑体"/>
              </a:rPr>
              <a:t>Click to edit the title text format</a:t>
            </a:r>
            <a:endParaRPr b="0" lang="en-US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12720" y="2239920"/>
            <a:ext cx="110030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-158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Click to edit the outline text format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1" marL="779400" indent="-29844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con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2" marL="120024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Third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3" marL="1679400" indent="-2379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our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4" marL="2160720" indent="-23976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Fif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5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ix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  <a:p>
            <a:pPr lvl="6" marL="2160720" indent="-2397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黑体"/>
              </a:rPr>
              <a:t>Seventh Outline Level</a:t>
            </a: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61236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4181040" y="6849720"/>
            <a:ext cx="3876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772120" y="6849720"/>
            <a:ext cx="285588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76ED-15DA-49CA-B1CE-0C3E3B5EE74E}" type="slidenum">
              <a:rPr b="0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AutoShape 5"/>
          <p:cNvSpPr/>
          <p:nvPr/>
        </p:nvSpPr>
        <p:spPr>
          <a:xfrm flipH="1" flipV="1">
            <a:off x="7651080" y="5690520"/>
            <a:ext cx="1415880" cy="711000"/>
          </a:xfrm>
          <a:prstGeom prst="triangle">
            <a:avLst>
              <a:gd name="adj" fmla="val 50000"/>
            </a:avLst>
          </a:prstGeom>
          <a:solidFill>
            <a:srgbClr val="94d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805040" y="2277720"/>
            <a:ext cx="8913600" cy="8319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8520" bIns="38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Arial"/>
              </a:rPr>
              <a:t>试卷讲评</a:t>
            </a:r>
            <a:endParaRPr b="0" lang="en-US" sz="75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476520" y="3777840"/>
            <a:ext cx="5484960" cy="4748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8520" bIns="38520" anchor="t">
            <a:noAutofit/>
          </a:bodyPr>
          <a:p>
            <a:pPr marL="302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地理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八下</a:t>
            </a:r>
            <a:endParaRPr b="0" lang="en-US" sz="3600" spc="-1" strike="noStrike">
              <a:solidFill>
                <a:srgbClr val="808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2" descr="图片1_副本"/>
          <p:cNvPicPr/>
          <p:nvPr/>
        </p:nvPicPr>
        <p:blipFill>
          <a:blip r:embed="rId1"/>
          <a:stretch/>
        </p:blipFill>
        <p:spPr>
          <a:xfrm>
            <a:off x="1943280" y="1440000"/>
            <a:ext cx="8731080" cy="4383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0480" y="2830680"/>
            <a:ext cx="6478560" cy="112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自纠错</a:t>
            </a: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查落实</a:t>
            </a:r>
            <a:endParaRPr b="0" lang="en-US" sz="6600" spc="-1" strike="noStrike">
              <a:solidFill>
                <a:srgbClr val="0e965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图片 41" descr="图片1"/>
          <p:cNvPicPr/>
          <p:nvPr/>
        </p:nvPicPr>
        <p:blipFill>
          <a:blip r:embed="rId1"/>
          <a:stretch/>
        </p:blipFill>
        <p:spPr>
          <a:xfrm>
            <a:off x="5904000" y="1366920"/>
            <a:ext cx="6335640" cy="5121360"/>
          </a:xfrm>
          <a:prstGeom prst="rect">
            <a:avLst/>
          </a:prstGeom>
          <a:ln w="0">
            <a:noFill/>
          </a:ln>
        </p:spPr>
      </p:pic>
      <p:sp>
        <p:nvSpPr>
          <p:cNvPr id="648" name="文本框 7"/>
          <p:cNvSpPr/>
          <p:nvPr/>
        </p:nvSpPr>
        <p:spPr>
          <a:xfrm>
            <a:off x="4081320" y="358920"/>
            <a:ext cx="62866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自纠错</a:t>
            </a:r>
            <a:r>
              <a:rPr b="0" lang="en-US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查落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26629"/>
          <p:cNvSpPr/>
          <p:nvPr/>
        </p:nvSpPr>
        <p:spPr>
          <a:xfrm>
            <a:off x="866520" y="1655640"/>
            <a:ext cx="64108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描述与图中丙地区最相吻合的是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枯藤老树昏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桥流水人家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夜来南风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麦覆陇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烤肉青稞闻玉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白云曛醉落羊栏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漠孤烟直，长河落日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25603"/>
          <p:cNvSpPr/>
          <p:nvPr/>
        </p:nvSpPr>
        <p:spPr>
          <a:xfrm>
            <a:off x="6630840" y="17146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图片 41" descr="图片1"/>
          <p:cNvPicPr/>
          <p:nvPr/>
        </p:nvPicPr>
        <p:blipFill>
          <a:blip r:embed="rId1"/>
          <a:stretch/>
        </p:blipFill>
        <p:spPr>
          <a:xfrm>
            <a:off x="6551640" y="2084400"/>
            <a:ext cx="5688000" cy="4597560"/>
          </a:xfrm>
          <a:prstGeom prst="rect">
            <a:avLst/>
          </a:prstGeom>
          <a:ln w="0">
            <a:noFill/>
          </a:ln>
        </p:spPr>
      </p:pic>
      <p:sp>
        <p:nvSpPr>
          <p:cNvPr id="652" name="文本框 7"/>
          <p:cNvSpPr/>
          <p:nvPr/>
        </p:nvSpPr>
        <p:spPr>
          <a:xfrm>
            <a:off x="4081320" y="358920"/>
            <a:ext cx="62866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自纠错</a:t>
            </a:r>
            <a:r>
              <a:rPr b="0" lang="en-US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查落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27652"/>
          <p:cNvSpPr/>
          <p:nvPr/>
        </p:nvSpPr>
        <p:spPr>
          <a:xfrm>
            <a:off x="698400" y="1119240"/>
            <a:ext cx="1053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方水土养育一方人，下面的景观图是我国哪一地理区域乡村典型景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地区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乙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丙地区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丁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27655"/>
          <p:cNvSpPr/>
          <p:nvPr/>
        </p:nvSpPr>
        <p:spPr>
          <a:xfrm>
            <a:off x="1490760" y="461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27657"/>
          <p:cNvSpPr/>
          <p:nvPr/>
        </p:nvSpPr>
        <p:spPr>
          <a:xfrm>
            <a:off x="2632320" y="4680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少景观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图片 1073742877" descr=""/>
          <p:cNvPicPr/>
          <p:nvPr/>
        </p:nvPicPr>
        <p:blipFill>
          <a:blip r:embed="rId2"/>
          <a:stretch/>
        </p:blipFill>
        <p:spPr>
          <a:xfrm>
            <a:off x="33480" y="2917800"/>
            <a:ext cx="4384440" cy="2129040"/>
          </a:xfrm>
          <a:prstGeom prst="rect">
            <a:avLst/>
          </a:prstGeom>
          <a:ln w="0">
            <a:noFill/>
          </a:ln>
        </p:spPr>
      </p:pic>
      <p:pic>
        <p:nvPicPr>
          <p:cNvPr id="657" name="图片 1" descr="00401004_副本"/>
          <p:cNvPicPr/>
          <p:nvPr/>
        </p:nvPicPr>
        <p:blipFill>
          <a:blip r:embed="rId3"/>
          <a:stretch/>
        </p:blipFill>
        <p:spPr>
          <a:xfrm>
            <a:off x="2166840" y="4979880"/>
            <a:ext cx="4384800" cy="2094120"/>
          </a:xfrm>
          <a:prstGeom prst="rect">
            <a:avLst/>
          </a:prstGeom>
          <a:ln w="0">
            <a:noFill/>
          </a:ln>
        </p:spPr>
      </p:pic>
      <p:sp>
        <p:nvSpPr>
          <p:cNvPr id="658" name="文本框 25603"/>
          <p:cNvSpPr/>
          <p:nvPr/>
        </p:nvSpPr>
        <p:spPr>
          <a:xfrm>
            <a:off x="7056360" y="165564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文本框 7"/>
          <p:cNvSpPr/>
          <p:nvPr/>
        </p:nvSpPr>
        <p:spPr>
          <a:xfrm>
            <a:off x="4081320" y="358920"/>
            <a:ext cx="62866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自纠错</a:t>
            </a:r>
            <a:r>
              <a:rPr b="0" lang="en-US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查落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28675"/>
          <p:cNvSpPr/>
          <p:nvPr/>
        </p:nvSpPr>
        <p:spPr>
          <a:xfrm>
            <a:off x="698400" y="1477800"/>
            <a:ext cx="1053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有关西北地区的描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确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植被景观由东到西变化是荒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荒漠草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草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形以高原、山地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塔里木盆地内有我国最大的沙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塔克拉玛干沙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坎儿井是新疆绿洲地区人民古老的引水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28676"/>
          <p:cNvSpPr/>
          <p:nvPr/>
        </p:nvSpPr>
        <p:spPr>
          <a:xfrm>
            <a:off x="1490760" y="461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25603"/>
          <p:cNvSpPr/>
          <p:nvPr/>
        </p:nvSpPr>
        <p:spPr>
          <a:xfrm>
            <a:off x="7628040" y="144000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文本框 7"/>
          <p:cNvSpPr/>
          <p:nvPr/>
        </p:nvSpPr>
        <p:spPr>
          <a:xfrm>
            <a:off x="3300480" y="174600"/>
            <a:ext cx="62863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自纠错</a:t>
            </a:r>
            <a:r>
              <a:rPr b="0" lang="en-US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查落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9698"/>
          <p:cNvSpPr/>
          <p:nvPr/>
        </p:nvSpPr>
        <p:spPr>
          <a:xfrm>
            <a:off x="258840" y="1693800"/>
            <a:ext cx="64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喀什位于我国四大地区中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区，突出的自然特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分析突出自然特征的原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29699"/>
          <p:cNvSpPr/>
          <p:nvPr/>
        </p:nvSpPr>
        <p:spPr>
          <a:xfrm>
            <a:off x="1490760" y="461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"/>
          <p:cNvSpPr/>
          <p:nvPr/>
        </p:nvSpPr>
        <p:spPr>
          <a:xfrm>
            <a:off x="5300280" y="1666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西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2"/>
          <p:cNvSpPr/>
          <p:nvPr/>
        </p:nvSpPr>
        <p:spPr>
          <a:xfrm>
            <a:off x="4292280" y="2039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干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3"/>
          <p:cNvSpPr/>
          <p:nvPr/>
        </p:nvSpPr>
        <p:spPr>
          <a:xfrm>
            <a:off x="343080" y="3897360"/>
            <a:ext cx="613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深居内陆，距海遥远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又有山脉阻挡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来自海洋的湿润气候难以到达，降水少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4" descr="图片2_副本"/>
          <p:cNvPicPr/>
          <p:nvPr/>
        </p:nvPicPr>
        <p:blipFill>
          <a:blip r:embed="rId1"/>
          <a:stretch/>
        </p:blipFill>
        <p:spPr>
          <a:xfrm>
            <a:off x="6496200" y="804960"/>
            <a:ext cx="559116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图片 2" descr="图片1_副本"/>
          <p:cNvPicPr/>
          <p:nvPr/>
        </p:nvPicPr>
        <p:blipFill>
          <a:blip r:embed="rId1"/>
          <a:stretch/>
        </p:blipFill>
        <p:spPr>
          <a:xfrm>
            <a:off x="1971720" y="1407960"/>
            <a:ext cx="8731080" cy="43833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0480" y="2830680"/>
            <a:ext cx="6478560" cy="112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慎破题</a:t>
            </a: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巧答题</a:t>
            </a:r>
            <a:endParaRPr b="0" lang="en-US" sz="66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672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99960" y="1333440"/>
            <a:ext cx="103280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12360" y="2390760"/>
            <a:ext cx="1101564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40" indent="-1440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75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3" descr="C:\Users\hp21\Desktop\QQ图片20170418105327.png"/>
          <p:cNvPicPr/>
          <p:nvPr/>
        </p:nvPicPr>
        <p:blipFill>
          <a:blip r:embed="rId1"/>
          <a:stretch/>
        </p:blipFill>
        <p:spPr>
          <a:xfrm>
            <a:off x="0" y="0"/>
            <a:ext cx="12239640" cy="71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662040" y="1871280"/>
            <a:ext cx="1100304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>
              <a:lnSpc>
                <a:spcPct val="11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形式：</a:t>
            </a:r>
            <a:r>
              <a:rPr b="1" lang="zh-CN" sz="3200" spc="-1" strike="noStrike">
                <a:solidFill>
                  <a:srgbClr val="0d0d0d"/>
                </a:solidFill>
                <a:latin typeface="黑体"/>
              </a:rPr>
              <a:t>主持人代表小组汇报展示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 marL="1440">
              <a:lnSpc>
                <a:spcPct val="11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规则：</a:t>
            </a:r>
            <a:r>
              <a:rPr b="1" lang="zh-CN" sz="3200" spc="-1" strike="noStrike">
                <a:solidFill>
                  <a:srgbClr val="0d0d0d"/>
                </a:solidFill>
                <a:latin typeface="黑体"/>
              </a:rPr>
              <a:t>汇报人汇报完，以下情况均可获得加分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 marL="1440">
              <a:lnSpc>
                <a:spcPct val="11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黑体"/>
              </a:rPr>
              <a:t>①</a:t>
            </a:r>
            <a:r>
              <a:rPr b="1" lang="zh-CN" sz="3200" spc="-1" strike="noStrike">
                <a:solidFill>
                  <a:srgbClr val="0d0d0d"/>
                </a:solidFill>
                <a:latin typeface="黑体"/>
              </a:rPr>
              <a:t>若大家听明白且认同其观点，给予掌声者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 marL="1440">
              <a:lnSpc>
                <a:spcPct val="11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黑体"/>
              </a:rPr>
              <a:t>②</a:t>
            </a:r>
            <a:r>
              <a:rPr b="1" lang="zh-CN" sz="3200" spc="-1" strike="noStrike">
                <a:solidFill>
                  <a:srgbClr val="0d0d0d"/>
                </a:solidFill>
                <a:latin typeface="黑体"/>
              </a:rPr>
              <a:t>能提出问题者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 marL="1440">
              <a:lnSpc>
                <a:spcPct val="11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黑体"/>
              </a:rPr>
              <a:t>③</a:t>
            </a:r>
            <a:r>
              <a:rPr b="1" lang="zh-CN" sz="3200" spc="-1" strike="noStrike">
                <a:solidFill>
                  <a:srgbClr val="0d0d0d"/>
                </a:solidFill>
                <a:latin typeface="黑体"/>
              </a:rPr>
              <a:t>解答正确者（被提问者有优先解答权）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 marL="1440">
              <a:lnSpc>
                <a:spcPct val="11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④</a:t>
            </a:r>
            <a:r>
              <a:rPr b="1" lang="zh-CN" sz="3200" spc="-1" strike="noStrike">
                <a:solidFill>
                  <a:srgbClr val="0d0d0d"/>
                </a:solidFill>
                <a:latin typeface="黑体"/>
              </a:rPr>
              <a:t>补充有效者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79" name="文本框 7"/>
          <p:cNvSpPr/>
          <p:nvPr/>
        </p:nvSpPr>
        <p:spPr>
          <a:xfrm>
            <a:off x="4103640" y="358920"/>
            <a:ext cx="62866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汇报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展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内容占位符 -2147482622" descr="特色农业成图2"/>
          <p:cNvPicPr/>
          <p:nvPr/>
        </p:nvPicPr>
        <p:blipFill>
          <a:blip r:embed="rId1"/>
          <a:stretch/>
        </p:blipFill>
        <p:spPr>
          <a:xfrm>
            <a:off x="3798720" y="17640"/>
            <a:ext cx="8218800" cy="6551280"/>
          </a:xfrm>
          <a:prstGeom prst="rect">
            <a:avLst/>
          </a:prstGeom>
          <a:ln w="0">
            <a:noFill/>
          </a:ln>
        </p:spPr>
      </p:pic>
      <p:sp>
        <p:nvSpPr>
          <p:cNvPr id="681" name="文本框 3"/>
          <p:cNvSpPr/>
          <p:nvPr/>
        </p:nvSpPr>
        <p:spPr>
          <a:xfrm>
            <a:off x="3866400" y="656892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8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西北地区种植薰衣草的优越自然条件。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34819"/>
          <p:cNvSpPr/>
          <p:nvPr/>
        </p:nvSpPr>
        <p:spPr>
          <a:xfrm>
            <a:off x="1453680" y="3600360"/>
            <a:ext cx="3350520" cy="58140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7741"/>
                </a:solidFill>
                <a:latin typeface="宋体"/>
              </a:rPr>
              <a:t>读图文资料，提取信息或背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椭圆 34820"/>
          <p:cNvSpPr/>
          <p:nvPr/>
        </p:nvSpPr>
        <p:spPr>
          <a:xfrm>
            <a:off x="3382920" y="6551640"/>
            <a:ext cx="792360" cy="5745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3"/>
          <p:cNvSpPr/>
          <p:nvPr/>
        </p:nvSpPr>
        <p:spPr>
          <a:xfrm>
            <a:off x="1140480" y="2111400"/>
            <a:ext cx="40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9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喀什位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地形区）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该地形区中城镇的分布特点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的原因。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图片 4" descr="图片2_副本"/>
          <p:cNvPicPr/>
          <p:nvPr/>
        </p:nvPicPr>
        <p:blipFill>
          <a:blip r:embed="rId1"/>
          <a:stretch/>
        </p:blipFill>
        <p:spPr>
          <a:xfrm>
            <a:off x="6305400" y="339840"/>
            <a:ext cx="5807160" cy="6519600"/>
          </a:xfrm>
          <a:prstGeom prst="rect">
            <a:avLst/>
          </a:prstGeom>
          <a:ln w="0">
            <a:noFill/>
          </a:ln>
        </p:spPr>
      </p:pic>
      <p:sp>
        <p:nvSpPr>
          <p:cNvPr id="686" name="文本框 35843"/>
          <p:cNvSpPr/>
          <p:nvPr/>
        </p:nvSpPr>
        <p:spPr>
          <a:xfrm>
            <a:off x="1166040" y="4032360"/>
            <a:ext cx="3350520" cy="58140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7741"/>
                </a:solidFill>
                <a:latin typeface="宋体"/>
              </a:rPr>
              <a:t>读图文资料，提取信息或背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接连接符 35844"/>
          <p:cNvSpPr/>
          <p:nvPr/>
        </p:nvSpPr>
        <p:spPr>
          <a:xfrm>
            <a:off x="3743280" y="3024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35845"/>
          <p:cNvSpPr/>
          <p:nvPr/>
        </p:nvSpPr>
        <p:spPr>
          <a:xfrm>
            <a:off x="287280" y="3456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21840" y="1112760"/>
            <a:ext cx="56898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【</a:t>
            </a:r>
            <a:r>
              <a:rPr b="1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学习目标</a:t>
            </a:r>
            <a:r>
              <a:rPr b="1" lang="en-US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】</a:t>
            </a:r>
            <a:endParaRPr b="0" lang="en-US" sz="48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79640" y="2109600"/>
            <a:ext cx="102074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、通过试卷讲评，我能找出并解决自己存在的问题；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、我能学会综合题的破题方法、答题技巧。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合作方法：发言卡、叽叽喳喳法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合作技能：给予他人指令、倾听、赞美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文本框 3"/>
          <p:cNvSpPr/>
          <p:nvPr/>
        </p:nvSpPr>
        <p:spPr>
          <a:xfrm>
            <a:off x="647640" y="1366920"/>
            <a:ext cx="61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7(5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世界第一长桥京沪高铁丹昆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特大铁路桥，纵贯河网化地貌，横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数百万居民，越阡陌、涉江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请根据该地区自然和人文环境特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分析修建丹昆大桥的原因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3" descr="中国政区带长江黄河.jpg"/>
          <p:cNvPicPr/>
          <p:nvPr/>
        </p:nvPicPr>
        <p:blipFill>
          <a:blip r:embed="rId1"/>
          <a:stretch/>
        </p:blipFill>
        <p:spPr>
          <a:xfrm>
            <a:off x="7242120" y="85680"/>
            <a:ext cx="4054680" cy="70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1" name="文本框 36867"/>
          <p:cNvSpPr/>
          <p:nvPr/>
        </p:nvSpPr>
        <p:spPr>
          <a:xfrm>
            <a:off x="358920" y="4248000"/>
            <a:ext cx="6777000" cy="58140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7741"/>
                </a:solidFill>
                <a:latin typeface="宋体"/>
              </a:rPr>
              <a:t>读懂资料和题意，找出关键词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接连接符 36868"/>
          <p:cNvSpPr/>
          <p:nvPr/>
        </p:nvSpPr>
        <p:spPr>
          <a:xfrm flipV="1">
            <a:off x="1150920" y="2879640"/>
            <a:ext cx="4321080" cy="129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文本框 99"/>
          <p:cNvSpPr/>
          <p:nvPr/>
        </p:nvSpPr>
        <p:spPr>
          <a:xfrm>
            <a:off x="246240" y="5616720"/>
            <a:ext cx="119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9(5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阅读图文材料，简述瓜达尔港的通航对中国发展的重要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3" descr="图片2_副本_副本"/>
          <p:cNvPicPr/>
          <p:nvPr/>
        </p:nvPicPr>
        <p:blipFill>
          <a:blip r:embed="rId1"/>
          <a:stretch/>
        </p:blipFill>
        <p:spPr>
          <a:xfrm>
            <a:off x="5334120" y="668160"/>
            <a:ext cx="6825960" cy="4729320"/>
          </a:xfrm>
          <a:prstGeom prst="rect">
            <a:avLst/>
          </a:prstGeom>
          <a:ln w="0">
            <a:noFill/>
          </a:ln>
        </p:spPr>
      </p:pic>
      <p:sp>
        <p:nvSpPr>
          <p:cNvPr id="695" name="文本框 4"/>
          <p:cNvSpPr/>
          <p:nvPr/>
        </p:nvSpPr>
        <p:spPr>
          <a:xfrm>
            <a:off x="181080" y="487440"/>
            <a:ext cx="5079960" cy="1923480"/>
          </a:xfrm>
          <a:prstGeom prst="rect">
            <a:avLst/>
          </a:prstGeom>
          <a:solidFill>
            <a:srgbClr val="80f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材料一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新疆是我国西部开发的重要阵地，而喀什是我国的西大门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中央批准喀什设立经济特区，将以“东有上海，西有喀什”为目标，依托国家政策，面向西面广阔的市场，通过中巴铁路直达瓜达尔港，意味着中国有了通向印度洋的出海口，努力把喀什建设成为世界级的国际化大都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材料二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我国将近三分之二石油来自进口，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将为四分之三。同时，我国石油的进口对马六甲海峡严重依赖。打开由美国实际控制的马六甲海峡的战略制约，是中国崛起必须突破的战略瓶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37892"/>
          <p:cNvSpPr/>
          <p:nvPr/>
        </p:nvSpPr>
        <p:spPr>
          <a:xfrm>
            <a:off x="2590920" y="6264360"/>
            <a:ext cx="6840360" cy="58140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7741"/>
                </a:solidFill>
                <a:latin typeface="宋体"/>
              </a:rPr>
              <a:t>读懂资料和题意，找出关键词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文本框 3"/>
          <p:cNvSpPr/>
          <p:nvPr/>
        </p:nvSpPr>
        <p:spPr>
          <a:xfrm>
            <a:off x="1569600" y="1654200"/>
            <a:ext cx="439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7(3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提升长三角、长江中游、长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上游三大城市群功能，需要大力发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上海引领作用，从位置的角度分析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海为何会成为长江经济带的龙头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图片 3" descr="中国政区带长江黄河.jpg"/>
          <p:cNvPicPr/>
          <p:nvPr/>
        </p:nvPicPr>
        <p:blipFill>
          <a:blip r:embed="rId1"/>
          <a:stretch/>
        </p:blipFill>
        <p:spPr>
          <a:xfrm>
            <a:off x="7242120" y="85680"/>
            <a:ext cx="4054680" cy="70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9" name="椭圆 38915"/>
          <p:cNvSpPr/>
          <p:nvPr/>
        </p:nvSpPr>
        <p:spPr>
          <a:xfrm>
            <a:off x="3227400" y="2478240"/>
            <a:ext cx="792000" cy="5745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内容占位符 -2147482622" descr="特色农业成图2"/>
          <p:cNvPicPr/>
          <p:nvPr/>
        </p:nvPicPr>
        <p:blipFill>
          <a:blip r:embed="rId1"/>
          <a:stretch/>
        </p:blipFill>
        <p:spPr>
          <a:xfrm>
            <a:off x="3887640" y="17640"/>
            <a:ext cx="7651800" cy="6099120"/>
          </a:xfrm>
          <a:prstGeom prst="rect">
            <a:avLst/>
          </a:prstGeom>
          <a:ln w="0">
            <a:noFill/>
          </a:ln>
        </p:spPr>
      </p:pic>
      <p:sp>
        <p:nvSpPr>
          <p:cNvPr id="701" name="文本框 3"/>
          <p:cNvSpPr/>
          <p:nvPr/>
        </p:nvSpPr>
        <p:spPr>
          <a:xfrm>
            <a:off x="790560" y="6048360"/>
            <a:ext cx="105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8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比薰衣草所在地区和五常大米所在地区，说出二者农产品主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区分布形状的差异。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39939"/>
          <p:cNvSpPr/>
          <p:nvPr/>
        </p:nvSpPr>
        <p:spPr>
          <a:xfrm>
            <a:off x="1943280" y="6840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文本框 3"/>
          <p:cNvSpPr/>
          <p:nvPr/>
        </p:nvSpPr>
        <p:spPr>
          <a:xfrm>
            <a:off x="1481760" y="1996920"/>
            <a:ext cx="32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9(3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喀什将成为我国西部的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级物流中心、金融中心、贸易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心……，喀什对新疆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乃至西部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。喀什经济发展迅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发展过程要注意哪些生态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图片 4" descr="图片2_副本"/>
          <p:cNvPicPr/>
          <p:nvPr/>
        </p:nvPicPr>
        <p:blipFill>
          <a:blip r:embed="rId1"/>
          <a:stretch/>
        </p:blipFill>
        <p:spPr>
          <a:xfrm>
            <a:off x="6254640" y="268200"/>
            <a:ext cx="5716800" cy="64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文本框 3"/>
          <p:cNvSpPr/>
          <p:nvPr/>
        </p:nvSpPr>
        <p:spPr>
          <a:xfrm>
            <a:off x="309600" y="3362400"/>
            <a:ext cx="64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7(4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长江三角洲是我国最大的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业基地，结合资料，为长三角今后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提出合理化建议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图片 3" descr="中国政区带长江黄河.jpg"/>
          <p:cNvPicPr/>
          <p:nvPr/>
        </p:nvPicPr>
        <p:blipFill>
          <a:blip r:embed="rId1"/>
          <a:stretch/>
        </p:blipFill>
        <p:spPr>
          <a:xfrm>
            <a:off x="8031240" y="85680"/>
            <a:ext cx="4054320" cy="70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7" name="文本框 4"/>
          <p:cNvSpPr/>
          <p:nvPr/>
        </p:nvSpPr>
        <p:spPr>
          <a:xfrm>
            <a:off x="790560" y="223920"/>
            <a:ext cx="7029360" cy="825480"/>
          </a:xfrm>
          <a:prstGeom prst="rect">
            <a:avLst/>
          </a:prstGeom>
          <a:solidFill>
            <a:srgbClr val="80f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国务院部署打造长江经济带，采取创新驱动促进产业转型升级，以及建设绿色生态廊道等措施，兼顾环境和经济的双重效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海浦东新区作为长江经济带的龙头，同时拥有外高桥保税区、陆家嘴金融贸易区、金桥出口加工区和张江高科技园区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国家级重点开发区。并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设立中国（上海）自由贸易试验区，成为中国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自贸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41988"/>
          <p:cNvSpPr/>
          <p:nvPr/>
        </p:nvSpPr>
        <p:spPr>
          <a:xfrm>
            <a:off x="479520" y="5062680"/>
            <a:ext cx="2039760" cy="82548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b7741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b7741"/>
                </a:solidFill>
                <a:latin typeface="宋体"/>
              </a:rPr>
              <a:t>根据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b7741"/>
                </a:solidFill>
                <a:latin typeface="宋体"/>
              </a:rPr>
              <a:t>找优势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41989"/>
          <p:cNvSpPr/>
          <p:nvPr/>
        </p:nvSpPr>
        <p:spPr>
          <a:xfrm>
            <a:off x="360360" y="6407280"/>
            <a:ext cx="2590920" cy="45972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b7741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b7741"/>
                </a:solidFill>
                <a:latin typeface="宋体"/>
              </a:rPr>
              <a:t>看地理位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41990"/>
          <p:cNvSpPr/>
          <p:nvPr/>
        </p:nvSpPr>
        <p:spPr>
          <a:xfrm>
            <a:off x="3680280" y="6407280"/>
            <a:ext cx="2027520" cy="45972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b7741"/>
                </a:solidFill>
                <a:latin typeface="宋体"/>
              </a:rPr>
              <a:t>沿边、沿海</a:t>
            </a:r>
            <a:r>
              <a:rPr b="1" lang="en-US" sz="2400" spc="-1" strike="noStrike">
                <a:solidFill>
                  <a:srgbClr val="0b7741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b7741"/>
                </a:solidFill>
                <a:latin typeface="宋体"/>
              </a:rPr>
              <a:t>发展对外贸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41991"/>
          <p:cNvSpPr/>
          <p:nvPr/>
        </p:nvSpPr>
        <p:spPr>
          <a:xfrm>
            <a:off x="3242520" y="4751280"/>
            <a:ext cx="1095120" cy="45972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b7741"/>
                </a:solidFill>
                <a:latin typeface="宋体"/>
              </a:rPr>
              <a:t>发展旅游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41992"/>
          <p:cNvSpPr/>
          <p:nvPr/>
        </p:nvSpPr>
        <p:spPr>
          <a:xfrm>
            <a:off x="3583800" y="5761080"/>
            <a:ext cx="2801880" cy="45972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b7741"/>
                </a:solidFill>
                <a:latin typeface="宋体"/>
              </a:rPr>
              <a:t>大城市</a:t>
            </a:r>
            <a:r>
              <a:rPr b="1" lang="en-US" sz="2400" spc="-1" strike="noStrike">
                <a:solidFill>
                  <a:srgbClr val="0b7741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b7741"/>
                </a:solidFill>
                <a:latin typeface="宋体"/>
              </a:rPr>
              <a:t>发展高新技术产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左大括号 4"/>
          <p:cNvSpPr/>
          <p:nvPr/>
        </p:nvSpPr>
        <p:spPr>
          <a:xfrm>
            <a:off x="2592360" y="5062680"/>
            <a:ext cx="260280" cy="1056960"/>
          </a:xfrm>
          <a:custGeom>
            <a:avLst/>
            <a:gdLst>
              <a:gd name="textAreaLeft" fmla="*/ 166320 w 260280"/>
              <a:gd name="textAreaRight" fmla="*/ 260640 w 260280"/>
              <a:gd name="textAreaTop" fmla="*/ 64440 h 1056960"/>
              <a:gd name="textAreaBottom" fmla="*/ 992520 h 105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1"/>
                  <a:pt x="10800" y="4221"/>
                </a:cubicBezTo>
                <a:lnTo>
                  <a:pt x="10800" y="6579"/>
                </a:lnTo>
                <a:cubicBezTo>
                  <a:pt x="10800" y="8690"/>
                  <a:pt x="5400" y="10800"/>
                  <a:pt x="0" y="10800"/>
                </a:cubicBezTo>
                <a:cubicBezTo>
                  <a:pt x="5400" y="10800"/>
                  <a:pt x="10800" y="12911"/>
                  <a:pt x="10800" y="15021"/>
                </a:cubicBezTo>
                <a:lnTo>
                  <a:pt x="10800" y="17379"/>
                </a:lnTo>
                <a:cubicBezTo>
                  <a:pt x="10800" y="1949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内容占位符 -2147482622" descr="特色农业成图2"/>
          <p:cNvPicPr/>
          <p:nvPr/>
        </p:nvPicPr>
        <p:blipFill>
          <a:blip r:embed="rId1"/>
          <a:stretch/>
        </p:blipFill>
        <p:spPr>
          <a:xfrm>
            <a:off x="4365720" y="17640"/>
            <a:ext cx="7651800" cy="6099120"/>
          </a:xfrm>
          <a:prstGeom prst="rect">
            <a:avLst/>
          </a:prstGeom>
          <a:ln w="0">
            <a:noFill/>
          </a:ln>
        </p:spPr>
      </p:pic>
      <p:sp>
        <p:nvSpPr>
          <p:cNvPr id="715" name="文本框 3"/>
          <p:cNvSpPr/>
          <p:nvPr/>
        </p:nvSpPr>
        <p:spPr>
          <a:xfrm>
            <a:off x="4798440" y="633564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8(4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请你为伊犁今后的经济发展出谋划策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43011"/>
          <p:cNvSpPr/>
          <p:nvPr/>
        </p:nvSpPr>
        <p:spPr>
          <a:xfrm>
            <a:off x="142920" y="2692440"/>
            <a:ext cx="5084640" cy="52056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7741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b7741"/>
                </a:solidFill>
                <a:latin typeface="宋体"/>
              </a:rPr>
              <a:t>根据资料，找优势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43012"/>
          <p:cNvSpPr/>
          <p:nvPr/>
        </p:nvSpPr>
        <p:spPr>
          <a:xfrm>
            <a:off x="142920" y="3413160"/>
            <a:ext cx="3273480" cy="52056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7741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b7741"/>
                </a:solidFill>
                <a:latin typeface="宋体"/>
              </a:rPr>
              <a:t>看地理位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43013"/>
          <p:cNvSpPr/>
          <p:nvPr/>
        </p:nvSpPr>
        <p:spPr>
          <a:xfrm>
            <a:off x="4221000" y="3413160"/>
            <a:ext cx="2334240" cy="52056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7741"/>
                </a:solidFill>
                <a:latin typeface="宋体"/>
              </a:rPr>
              <a:t>沿边、沿海</a:t>
            </a:r>
            <a:r>
              <a:rPr b="1" lang="en-US" sz="2800" spc="-1" strike="noStrike">
                <a:solidFill>
                  <a:srgbClr val="0b7741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b7741"/>
                </a:solidFill>
                <a:latin typeface="宋体"/>
              </a:rPr>
              <a:t>发展对外贸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3014"/>
          <p:cNvSpPr/>
          <p:nvPr/>
        </p:nvSpPr>
        <p:spPr>
          <a:xfrm>
            <a:off x="501120" y="4100400"/>
            <a:ext cx="1632960" cy="52056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7741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b7741"/>
                </a:solidFill>
                <a:latin typeface="宋体"/>
              </a:rPr>
              <a:t>农业规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43016"/>
          <p:cNvSpPr/>
          <p:nvPr/>
        </p:nvSpPr>
        <p:spPr>
          <a:xfrm>
            <a:off x="3039120" y="4100400"/>
            <a:ext cx="1887480" cy="520560"/>
          </a:xfrm>
          <a:prstGeom prst="rect">
            <a:avLst/>
          </a:prstGeom>
          <a:solidFill>
            <a:srgbClr val="ebf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7741"/>
                </a:solidFill>
                <a:latin typeface="宋体"/>
              </a:rPr>
              <a:t>学过的或知识迁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图片 2" descr="图片1_副本"/>
          <p:cNvPicPr/>
          <p:nvPr/>
        </p:nvPicPr>
        <p:blipFill>
          <a:blip r:embed="rId1"/>
          <a:stretch/>
        </p:blipFill>
        <p:spPr>
          <a:xfrm>
            <a:off x="1971720" y="1407960"/>
            <a:ext cx="8731080" cy="438336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0480" y="2830680"/>
            <a:ext cx="6478560" cy="112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学有成</a:t>
            </a: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为我用</a:t>
            </a:r>
            <a:endParaRPr b="0" lang="en-US" sz="6600" spc="-1" strike="noStrike">
              <a:solidFill>
                <a:srgbClr val="0e965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9960" y="1333440"/>
            <a:ext cx="103280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e9651"/>
              </a:solidFill>
              <a:latin typeface="黑体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612360" y="2390760"/>
            <a:ext cx="1101564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40" indent="-14400">
              <a:lnSpc>
                <a:spcPct val="12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8080"/>
              </a:solidFill>
              <a:latin typeface="黑体"/>
            </a:endParaRPr>
          </a:p>
        </p:txBody>
      </p:sp>
      <p:pic>
        <p:nvPicPr>
          <p:cNvPr id="725" name="Picture 1" descr="C:\Users\hp21\AppData\Roaming\Tencent\Users\278422371\QQ\WinTemp\RichOle\RTAZ3S723}@FR7EOPY%$$FL.png"/>
          <p:cNvPicPr/>
          <p:nvPr/>
        </p:nvPicPr>
        <p:blipFill>
          <a:blip r:embed="rId1"/>
          <a:stretch/>
        </p:blipFill>
        <p:spPr>
          <a:xfrm>
            <a:off x="0" y="0"/>
            <a:ext cx="1223964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684000" y="1881000"/>
            <a:ext cx="110026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、扎实落实主干知识和基础图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以上没问题。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  <a:p>
            <a:pPr marL="1440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、通过练习，学会知识迁移解决问题。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  <a:p>
            <a:pPr marL="1440"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、认真审题（资料），理解题意，找出关键词（关键信息）再做题。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727" name="文本框 7"/>
          <p:cNvSpPr/>
          <p:nvPr/>
        </p:nvSpPr>
        <p:spPr>
          <a:xfrm>
            <a:off x="4103640" y="358920"/>
            <a:ext cx="62866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学有成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为我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3"/>
          <p:cNvGrpSpPr/>
          <p:nvPr/>
        </p:nvGrpSpPr>
        <p:grpSpPr>
          <a:xfrm>
            <a:off x="3483000" y="1224000"/>
            <a:ext cx="5882760" cy="950760"/>
            <a:chOff x="3483000" y="1224000"/>
            <a:chExt cx="5882760" cy="950760"/>
          </a:xfrm>
        </p:grpSpPr>
        <p:sp>
          <p:nvSpPr>
            <p:cNvPr id="606" name="Rectangle 4"/>
            <p:cNvSpPr/>
            <p:nvPr/>
          </p:nvSpPr>
          <p:spPr>
            <a:xfrm>
              <a:off x="3483000" y="1224000"/>
              <a:ext cx="965880" cy="950760"/>
            </a:xfrm>
            <a:prstGeom prst="rect">
              <a:avLst/>
            </a:prstGeom>
            <a:solidFill>
              <a:srgbClr val="94d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5"/>
            <p:cNvSpPr/>
            <p:nvPr/>
          </p:nvSpPr>
          <p:spPr>
            <a:xfrm>
              <a:off x="4333680" y="1293480"/>
              <a:ext cx="5032080" cy="810360"/>
            </a:xfrm>
            <a:prstGeom prst="rect">
              <a:avLst/>
            </a:prstGeom>
            <a:solidFill>
              <a:srgbClr val="8ee5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大数据</a:t>
              </a: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·</a:t>
              </a: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析考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3"/>
          <p:cNvGrpSpPr/>
          <p:nvPr/>
        </p:nvGrpSpPr>
        <p:grpSpPr>
          <a:xfrm>
            <a:off x="3483000" y="2301840"/>
            <a:ext cx="5883120" cy="992160"/>
            <a:chOff x="3483000" y="2301840"/>
            <a:chExt cx="5883120" cy="992160"/>
          </a:xfrm>
        </p:grpSpPr>
        <p:sp>
          <p:nvSpPr>
            <p:cNvPr id="609" name="Rectangle 4"/>
            <p:cNvSpPr/>
            <p:nvPr/>
          </p:nvSpPr>
          <p:spPr>
            <a:xfrm>
              <a:off x="3483000" y="2301840"/>
              <a:ext cx="965520" cy="992160"/>
            </a:xfrm>
            <a:prstGeom prst="rect">
              <a:avLst/>
            </a:prstGeom>
            <a:solidFill>
              <a:srgbClr val="94d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0</a:t>
              </a:r>
              <a:r>
                <a:rPr b="1" lang="en-US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5"/>
            <p:cNvSpPr/>
            <p:nvPr/>
          </p:nvSpPr>
          <p:spPr>
            <a:xfrm>
              <a:off x="4333320" y="2383200"/>
              <a:ext cx="5032800" cy="810360"/>
            </a:xfrm>
            <a:prstGeom prst="rect">
              <a:avLst/>
            </a:prstGeom>
            <a:solidFill>
              <a:srgbClr val="8ee5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选择题</a:t>
              </a: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·</a:t>
              </a: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略讲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3"/>
          <p:cNvGrpSpPr/>
          <p:nvPr/>
        </p:nvGrpSpPr>
        <p:grpSpPr>
          <a:xfrm>
            <a:off x="3481560" y="3389400"/>
            <a:ext cx="5897520" cy="925560"/>
            <a:chOff x="3481560" y="3389400"/>
            <a:chExt cx="5897520" cy="925560"/>
          </a:xfrm>
        </p:grpSpPr>
        <p:sp>
          <p:nvSpPr>
            <p:cNvPr id="612" name="Rectangle 4"/>
            <p:cNvSpPr/>
            <p:nvPr/>
          </p:nvSpPr>
          <p:spPr>
            <a:xfrm>
              <a:off x="3481560" y="3389400"/>
              <a:ext cx="978480" cy="925560"/>
            </a:xfrm>
            <a:prstGeom prst="rect">
              <a:avLst/>
            </a:prstGeom>
            <a:solidFill>
              <a:srgbClr val="94d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0</a:t>
              </a:r>
              <a:r>
                <a:rPr b="1" lang="en-US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5"/>
            <p:cNvSpPr/>
            <p:nvPr/>
          </p:nvSpPr>
          <p:spPr>
            <a:xfrm>
              <a:off x="4344840" y="3446640"/>
              <a:ext cx="5034240" cy="811080"/>
            </a:xfrm>
            <a:prstGeom prst="rect">
              <a:avLst/>
            </a:prstGeom>
            <a:solidFill>
              <a:srgbClr val="8ee5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自纠错</a:t>
              </a: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·</a:t>
              </a: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查落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3"/>
          <p:cNvGrpSpPr/>
          <p:nvPr/>
        </p:nvGrpSpPr>
        <p:grpSpPr>
          <a:xfrm>
            <a:off x="3481560" y="4441680"/>
            <a:ext cx="5883120" cy="990720"/>
            <a:chOff x="3481560" y="4441680"/>
            <a:chExt cx="5883120" cy="990720"/>
          </a:xfrm>
        </p:grpSpPr>
        <p:sp>
          <p:nvSpPr>
            <p:cNvPr id="615" name="Rectangle 4"/>
            <p:cNvSpPr/>
            <p:nvPr/>
          </p:nvSpPr>
          <p:spPr>
            <a:xfrm>
              <a:off x="3481560" y="4441680"/>
              <a:ext cx="965520" cy="990720"/>
            </a:xfrm>
            <a:prstGeom prst="rect">
              <a:avLst/>
            </a:prstGeom>
            <a:solidFill>
              <a:srgbClr val="94d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0</a:t>
              </a:r>
              <a:r>
                <a:rPr b="1" lang="en-US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5"/>
            <p:cNvSpPr/>
            <p:nvPr/>
          </p:nvSpPr>
          <p:spPr>
            <a:xfrm>
              <a:off x="4331880" y="4551480"/>
              <a:ext cx="5032800" cy="809280"/>
            </a:xfrm>
            <a:prstGeom prst="rect">
              <a:avLst/>
            </a:prstGeom>
            <a:solidFill>
              <a:srgbClr val="8ee5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慎破题</a:t>
              </a: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·</a:t>
              </a: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巧答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3"/>
          <p:cNvGrpSpPr/>
          <p:nvPr/>
        </p:nvGrpSpPr>
        <p:grpSpPr>
          <a:xfrm>
            <a:off x="3479760" y="5541840"/>
            <a:ext cx="5897520" cy="924120"/>
            <a:chOff x="3479760" y="5541840"/>
            <a:chExt cx="5897520" cy="924120"/>
          </a:xfrm>
        </p:grpSpPr>
        <p:sp>
          <p:nvSpPr>
            <p:cNvPr id="618" name="Rectangle 4"/>
            <p:cNvSpPr/>
            <p:nvPr/>
          </p:nvSpPr>
          <p:spPr>
            <a:xfrm>
              <a:off x="3479760" y="5541840"/>
              <a:ext cx="978480" cy="924120"/>
            </a:xfrm>
            <a:prstGeom prst="rect">
              <a:avLst/>
            </a:prstGeom>
            <a:solidFill>
              <a:srgbClr val="94d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0</a:t>
              </a:r>
              <a:r>
                <a:rPr b="1" lang="en-US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5"/>
            <p:cNvSpPr/>
            <p:nvPr/>
          </p:nvSpPr>
          <p:spPr>
            <a:xfrm>
              <a:off x="4343040" y="5613120"/>
              <a:ext cx="5034240" cy="810000"/>
            </a:xfrm>
            <a:prstGeom prst="rect">
              <a:avLst/>
            </a:prstGeom>
            <a:solidFill>
              <a:srgbClr val="8ee5c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学有成</a:t>
              </a: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·</a:t>
              </a:r>
              <a:r>
                <a:rPr b="1" lang="zh-CN" sz="4000" spc="-1" strike="noStrike">
                  <a:solidFill>
                    <a:srgbClr val="0b7741"/>
                  </a:solidFill>
                  <a:latin typeface="黑体"/>
                  <a:ea typeface="黑体"/>
                </a:rPr>
                <a:t>为我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矩形 3" descr=""/>
          <p:cNvPicPr/>
          <p:nvPr/>
        </p:nvPicPr>
        <p:blipFill>
          <a:blip r:embed="rId1"/>
          <a:stretch/>
        </p:blipFill>
        <p:spPr>
          <a:xfrm>
            <a:off x="3060720" y="2766960"/>
            <a:ext cx="71676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2" descr="图片1_副本"/>
          <p:cNvPicPr/>
          <p:nvPr/>
        </p:nvPicPr>
        <p:blipFill>
          <a:blip r:embed="rId1"/>
          <a:stretch/>
        </p:blipFill>
        <p:spPr>
          <a:xfrm>
            <a:off x="1971720" y="1407960"/>
            <a:ext cx="8731080" cy="438336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300480" y="2830680"/>
            <a:ext cx="6478560" cy="112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大数据</a:t>
            </a: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析考情</a:t>
            </a:r>
            <a:endParaRPr b="0" lang="en-US" sz="6600" spc="-1" strike="noStrike">
              <a:solidFill>
                <a:srgbClr val="0e965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文本框 7"/>
          <p:cNvSpPr/>
          <p:nvPr/>
        </p:nvSpPr>
        <p:spPr>
          <a:xfrm>
            <a:off x="3887640" y="358920"/>
            <a:ext cx="52992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大数据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析考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89040" y="1224000"/>
          <a:ext cx="10671120" cy="1504800"/>
        </p:xfrm>
        <a:graphic>
          <a:graphicData uri="http://schemas.openxmlformats.org/drawingml/2006/table">
            <a:tbl>
              <a:tblPr/>
              <a:tblGrid>
                <a:gridCol w="1778040"/>
                <a:gridCol w="1779480"/>
                <a:gridCol w="1778040"/>
                <a:gridCol w="1778040"/>
                <a:gridCol w="1779480"/>
                <a:gridCol w="17780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等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f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100-85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f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85-75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f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75-6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f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60-4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f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（﹤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f09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9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9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9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9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9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9d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2592360" y="3844800"/>
          <a:ext cx="6859440" cy="1555920"/>
        </p:xfrm>
        <a:graphic>
          <a:graphicData uri="http://schemas.openxmlformats.org/drawingml/2006/table">
            <a:tbl>
              <a:tblPr/>
              <a:tblGrid>
                <a:gridCol w="2286000"/>
                <a:gridCol w="2287440"/>
                <a:gridCol w="22860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f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选择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f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综合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f092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0c0"/>
                          </a:solidFill>
                          <a:latin typeface="黑体"/>
                          <a:ea typeface="黑体"/>
                        </a:rPr>
                        <a:t>满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9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9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9dc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平均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c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4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c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cee"/>
                    </a:solidFill>
                  </a:tcPr>
                </a:tc>
              </a:tr>
            </a:tbl>
          </a:graphicData>
        </a:graphic>
      </p:graphicFrame>
      <p:sp>
        <p:nvSpPr>
          <p:cNvPr id="625" name="文本框 21548"/>
          <p:cNvSpPr/>
          <p:nvPr/>
        </p:nvSpPr>
        <p:spPr>
          <a:xfrm>
            <a:off x="698400" y="544032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b7741"/>
                </a:solidFill>
                <a:latin typeface="宋体"/>
              </a:rPr>
              <a:t>灵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21549"/>
          <p:cNvSpPr/>
          <p:nvPr/>
        </p:nvSpPr>
        <p:spPr>
          <a:xfrm>
            <a:off x="2714760" y="5440320"/>
            <a:ext cx="55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b7741"/>
                </a:solidFill>
                <a:latin typeface="宋体"/>
              </a:rPr>
              <a:t>知识迁移的点较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21550"/>
          <p:cNvSpPr/>
          <p:nvPr/>
        </p:nvSpPr>
        <p:spPr>
          <a:xfrm>
            <a:off x="8258040" y="5440320"/>
            <a:ext cx="35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b7741"/>
                </a:solidFill>
                <a:latin typeface="宋体"/>
              </a:rPr>
              <a:t>信息量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21551"/>
          <p:cNvSpPr/>
          <p:nvPr/>
        </p:nvSpPr>
        <p:spPr>
          <a:xfrm>
            <a:off x="2709720" y="6159600"/>
            <a:ext cx="65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有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7—3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的基础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720720" y="3056040"/>
            <a:ext cx="11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平均分进步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分以上的同学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谭传旭、赵萌、于晓非、屈永灿、王俊衡、李阳、孙文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2" descr="图片1_副本"/>
          <p:cNvPicPr/>
          <p:nvPr/>
        </p:nvPicPr>
        <p:blipFill>
          <a:blip r:embed="rId1"/>
          <a:stretch/>
        </p:blipFill>
        <p:spPr>
          <a:xfrm>
            <a:off x="1971720" y="1407960"/>
            <a:ext cx="8731080" cy="43833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0480" y="2830680"/>
            <a:ext cx="6478560" cy="112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选择题</a:t>
            </a: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6600" spc="-1" strike="noStrike">
                <a:solidFill>
                  <a:srgbClr val="0e9651"/>
                </a:solidFill>
                <a:latin typeface="华文新魏"/>
                <a:ea typeface="华文新魏"/>
              </a:rPr>
              <a:t>略讲解</a:t>
            </a:r>
            <a:endParaRPr b="0" lang="en-US" sz="6600" spc="-1" strike="noStrike">
              <a:solidFill>
                <a:srgbClr val="0e965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图片 11" descr="C:\DOCUME~1\ADMINI~1\LOCALS~1\Temp\ksohtml\wps1AA.tmp.png"/>
          <p:cNvPicPr/>
          <p:nvPr/>
        </p:nvPicPr>
        <p:blipFill>
          <a:blip r:embed="rId1"/>
          <a:stretch/>
        </p:blipFill>
        <p:spPr>
          <a:xfrm>
            <a:off x="5183280" y="1735200"/>
            <a:ext cx="6265800" cy="52848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574200" y="1440000"/>
            <a:ext cx="82314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2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关于图中区域类型，说法正确的是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.A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自然区域       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.F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行政区域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.D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经济区域      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D.B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文化区域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34" name="文本框 7"/>
          <p:cNvSpPr/>
          <p:nvPr/>
        </p:nvSpPr>
        <p:spPr>
          <a:xfrm>
            <a:off x="4081320" y="358920"/>
            <a:ext cx="62866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选择题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略讲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23556"/>
          <p:cNvSpPr/>
          <p:nvPr/>
        </p:nvSpPr>
        <p:spPr>
          <a:xfrm>
            <a:off x="7777080" y="1446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6"/>
          <p:cNvSpPr/>
          <p:nvPr/>
        </p:nvSpPr>
        <p:spPr>
          <a:xfrm>
            <a:off x="5614920" y="1511280"/>
            <a:ext cx="100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1006560" y="1800360"/>
            <a:ext cx="967896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2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8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下列地区突出的生态环境问题表述错误的是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江源——高原湿地面积缩小             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江平原——湿地面积锐减　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黄土高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土地荒漠化                 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塔里木盆地——绿洲退化</a:t>
            </a:r>
            <a:endParaRPr b="0" lang="en-US" sz="32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38" name="文本框 7"/>
          <p:cNvSpPr/>
          <p:nvPr/>
        </p:nvSpPr>
        <p:spPr>
          <a:xfrm>
            <a:off x="4081320" y="358920"/>
            <a:ext cx="62866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选择题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略讲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24580"/>
          <p:cNvSpPr/>
          <p:nvPr/>
        </p:nvSpPr>
        <p:spPr>
          <a:xfrm>
            <a:off x="9722520" y="16794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5"/>
          <p:cNvSpPr/>
          <p:nvPr/>
        </p:nvSpPr>
        <p:spPr>
          <a:xfrm>
            <a:off x="7693200" y="1835280"/>
            <a:ext cx="1008000" cy="5760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647280" y="1727280"/>
            <a:ext cx="11239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2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港澳与祖国大陆内地之间的联系非常密切，目前主要体现在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港澳所需的淡水、食品、原料、燃料主要来自祖国内地稳定的供应             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港澳产品通过深圳、珠海两城市进行转口贸易       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香港服务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广东制造业的粤港新经济模式      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前店后厂的经济模式</a:t>
            </a:r>
            <a:endParaRPr b="0" lang="en-US" sz="2800" spc="-1" strike="noStrike">
              <a:solidFill>
                <a:srgbClr val="808080"/>
              </a:solidFill>
              <a:latin typeface="黑体"/>
            </a:endParaRPr>
          </a:p>
        </p:txBody>
      </p:sp>
      <p:sp>
        <p:nvSpPr>
          <p:cNvPr id="642" name="文本框 25603"/>
          <p:cNvSpPr/>
          <p:nvPr/>
        </p:nvSpPr>
        <p:spPr>
          <a:xfrm>
            <a:off x="10799640" y="1727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7"/>
          <p:cNvSpPr/>
          <p:nvPr/>
        </p:nvSpPr>
        <p:spPr>
          <a:xfrm>
            <a:off x="4081320" y="358920"/>
            <a:ext cx="62866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240" rIns="75240" tIns="37800" bIns="37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选择题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0e9651"/>
                </a:solidFill>
                <a:latin typeface="华文新魏"/>
                <a:ea typeface="华文新魏"/>
              </a:rPr>
              <a:t>略讲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5"/>
          <p:cNvSpPr/>
          <p:nvPr/>
        </p:nvSpPr>
        <p:spPr>
          <a:xfrm>
            <a:off x="7891560" y="1784520"/>
            <a:ext cx="1008000" cy="5760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7:45:13Z</dcterms:created>
  <dc:creator/>
  <dc:description/>
  <dc:language>en-US</dc:language>
  <cp:lastModifiedBy>淡淡风铃</cp:lastModifiedBy>
  <dcterms:modified xsi:type="dcterms:W3CDTF">2018-03-14T00:45:49Z</dcterms:modified>
  <cp:revision>148</cp:revision>
  <dc:subject/>
  <dc:title>请在此输入您的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